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BD82-7BCC-4D56-9B74-0F8454018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0291-3DD5-4212-97EB-B793FA909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4A54-C48D-4763-9FE3-6861BB821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D76F-AA78-4224-B927-FF5503546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3551-F411-4F85-A44D-35402A26A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2BE0-F95D-48BA-9FD7-C833D44F6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CB1C-39F7-4F92-B6A3-E3901FAFB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775F-A4FF-4088-A701-119CAC4CC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2A6B-7D59-4F52-8436-BF82C619B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49B6-F1BA-47C4-9FD8-2E3FB6CD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3C4A-4B50-4E75-8BC5-6B30F826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7911-FC0C-4618-B98A-6159749F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FB858-0247-459F-B74F-6565CA452B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9144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SDUH Interview Appoin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348160" y="91440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0948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70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34816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80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3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7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6600" y="826920"/>
            <a:ext cx="4114800" cy="2602080"/>
            <a:chOff x="66600" y="826920"/>
            <a:chExt cx="4114800" cy="2602080"/>
          </a:xfrm>
        </p:grpSpPr>
        <p:sp>
          <p:nvSpPr>
            <p:cNvPr id="91" name=""/>
            <p:cNvSpPr/>
            <p:nvPr/>
          </p:nvSpPr>
          <p:spPr>
            <a:xfrm>
              <a:off x="6660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8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27672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7632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4952880" y="826920"/>
            <a:ext cx="4114800" cy="2602080"/>
            <a:chOff x="4952880" y="826920"/>
            <a:chExt cx="4114800" cy="2602080"/>
          </a:xfrm>
        </p:grpSpPr>
        <p:sp>
          <p:nvSpPr>
            <p:cNvPr id="96" name=""/>
            <p:cNvSpPr/>
            <p:nvPr/>
          </p:nvSpPr>
          <p:spPr>
            <a:xfrm>
              <a:off x="495288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2436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16300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96260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4952880" y="3570120"/>
            <a:ext cx="4114800" cy="2602080"/>
            <a:chOff x="4952880" y="3570120"/>
            <a:chExt cx="4114800" cy="2602080"/>
          </a:xfrm>
        </p:grpSpPr>
        <p:sp>
          <p:nvSpPr>
            <p:cNvPr id="101" name=""/>
            <p:cNvSpPr/>
            <p:nvPr/>
          </p:nvSpPr>
          <p:spPr>
            <a:xfrm>
              <a:off x="495288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436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816300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496260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76320" y="3570120"/>
            <a:ext cx="4114800" cy="2602080"/>
            <a:chOff x="76320" y="3570120"/>
            <a:chExt cx="4114800" cy="2602080"/>
          </a:xfrm>
        </p:grpSpPr>
        <p:sp>
          <p:nvSpPr>
            <p:cNvPr id="106" name=""/>
            <p:cNvSpPr/>
            <p:nvPr/>
          </p:nvSpPr>
          <p:spPr>
            <a:xfrm>
              <a:off x="7632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780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328644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8604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NSDUH</cp:lastModifiedBy>
  <dcterms:modified xsi:type="dcterms:W3CDTF">2007-05-22T00:18:57Z</dcterms:modified>
  <cp:revision>8</cp:revision>
  <dc:subject/>
  <dc:title>PowerPoint Presentation</dc:title>
</cp:coreProperties>
</file>